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</p:sldIdLst>
  <p:sldSz cx="12188825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21D73-C621-45ED-8AAE-5C209EE74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3A615-DA80-4976-B863-FC3B9FBF0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75517-161D-42FE-A43C-2F7F4C1FA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514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858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1744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5514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858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D619B-F6DB-4324-ABCD-8A0428726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862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1117440" y="76320"/>
            <a:ext cx="101570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862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F7D7F-CA29-4536-BBD1-1D6AC4E3C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514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79858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111744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45514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79858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862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484A3-5E7D-4B45-8614-A37D5B603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1117440" y="76320"/>
            <a:ext cx="101570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514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79858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111744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45514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79858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BBBFD-D8E2-4A64-80CA-718B8A5CD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862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D3B44-9E94-487F-B782-6F54F8253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37D9F-6FB5-419A-9FB5-261497630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6D776-88DB-4D53-B70E-FDB691CEA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53C47-6600-4E9D-8ECD-B771B8320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81626-901C-4FFA-B243-3080EC984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1117440" y="76320"/>
            <a:ext cx="101570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8ADA2-CA9C-4257-885B-57E17FF9C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442DB-F726-403B-A7C8-C622B1FE8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CB80B-BA40-43DE-ADAA-DD506BA3E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278E5-45A5-46CE-BD77-3A56C3803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F1BEA-0EA2-477F-AFC3-5A5D260F0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32251-596B-4C1F-8DA4-49104B1F0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514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79858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111744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45514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79858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2B1F8-9D4F-4533-8785-102805591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DEC197-A8B4-49B1-9385-ABFC7E37E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4B3FE-4ECD-4F77-892E-A0DD0B60B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862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0923AF-B815-4014-AD1F-C5177A3A8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67F3C8-45AA-462E-93D9-7B6E867B0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1C5790-C33D-435F-8B57-017F0281F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BDB845-CD09-4EC5-81F2-DCB37B044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1117440" y="76320"/>
            <a:ext cx="101570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4D9E41-8652-409A-815E-CB0C073D3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7F30B2-B9F0-4130-82F7-D8B1A40CE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7BE2E1-B80E-4C7B-8479-265A494D9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647254-8D87-4C9F-91B2-7A5F01509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D9148C-BCE9-4FCF-9A97-8EF5E750D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42C087-1D5E-4DDD-9DFD-6F9C40521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17440" y="76320"/>
            <a:ext cx="101570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E7E3E-6055-4DBE-9E44-395900564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514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79858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111744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45514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79858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3164B8-0697-4C6B-B1C6-C5401ABD4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CDB764-A43F-4A1B-B512-C6FCFCD60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862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0D539E-1CB2-4813-BDB9-EE68B26B6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B9AFB7-6C1F-44C8-9292-FA4986AB6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C8A3F0-9777-4C7C-8974-F1B57E5F6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5BE1FC-2BE5-4751-AC54-609077725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1117440" y="76320"/>
            <a:ext cx="101570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AA3CFA-4FC6-4C7E-9B0D-565CCAD78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D357B2-1F28-45C4-928C-19A8D1433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B54375-3F9A-431A-A3DE-ECE1A8BC7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65E1FA-91AD-4A5E-BC69-6011B1067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FD135-500E-4882-AFFA-CEADBAE95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12CF57-E60E-4061-9C73-4D314EE0C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5CA542-0E3B-434D-BF3E-0650B0FD4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514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79858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111744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45514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79858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24CFDC-EDB5-4F46-8FD9-01BD46503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9CEC2-A69F-41D7-ABF9-38FAE04A2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17A9B-3FEF-4FC7-B54C-EF7881D35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rostokąt 8"/>
          <p:cNvSpPr/>
          <p:nvPr/>
        </p:nvSpPr>
        <p:spPr>
          <a:xfrm>
            <a:off x="304920" y="0"/>
            <a:ext cx="11579040" cy="6858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55294"/>
                </a:srgbClr>
              </a:gs>
            </a:gsLst>
            <a:lin ang="7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400" spc="-1" strike="noStrike">
                <a:solidFill>
                  <a:srgbClr val="374c81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1" marL="73008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2" marL="115740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3" marL="158436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4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5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6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117440" y="6400440"/>
            <a:ext cx="274176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pl-PL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12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908520" y="6400440"/>
            <a:ext cx="621504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10167840" y="6400440"/>
            <a:ext cx="110664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pl-PL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fld id="{928DEEDD-6971-417A-B42A-7F0D32C79FFC}" type="slidenum">
              <a:rPr b="0" lang="pl-PL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400" spc="-1" strike="noStrike">
                <a:solidFill>
                  <a:srgbClr val="374c81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1" marL="73008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2" marL="115740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3" marL="158436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4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5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6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400" spc="-1" strike="noStrike">
                <a:solidFill>
                  <a:srgbClr val="374c81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1" marL="73008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2" marL="115740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3" marL="158436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4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5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6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400" spc="-1" strike="noStrike">
                <a:solidFill>
                  <a:srgbClr val="374c81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1" marL="73008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2" marL="115740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3" marL="158436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4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5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6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dt" idx="4"/>
          </p:nvPr>
        </p:nvSpPr>
        <p:spPr>
          <a:xfrm>
            <a:off x="1117440" y="6400440"/>
            <a:ext cx="274176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pl-PL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12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 type="ftr" idx="5"/>
          </p:nvPr>
        </p:nvSpPr>
        <p:spPr>
          <a:xfrm>
            <a:off x="3908520" y="6400440"/>
            <a:ext cx="621504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 type="sldNum" idx="6"/>
          </p:nvPr>
        </p:nvSpPr>
        <p:spPr>
          <a:xfrm>
            <a:off x="10167840" y="6400440"/>
            <a:ext cx="110664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pl-PL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fld id="{B539263E-3B08-4C04-A4C5-434B93101FF0}" type="slidenum">
              <a:rPr b="0" lang="pl-PL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rostokąt 7"/>
          <p:cNvSpPr/>
          <p:nvPr/>
        </p:nvSpPr>
        <p:spPr>
          <a:xfrm>
            <a:off x="3960720" y="0"/>
            <a:ext cx="7923240" cy="6858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55294"/>
                </a:srgbClr>
              </a:gs>
            </a:gsLst>
            <a:lin ang="7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400" spc="-1" strike="noStrike">
                <a:solidFill>
                  <a:srgbClr val="374c81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1" marL="73008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2" marL="115740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3" marL="158436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4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5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6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dt" idx="7"/>
          </p:nvPr>
        </p:nvSpPr>
        <p:spPr>
          <a:xfrm>
            <a:off x="1117440" y="6400440"/>
            <a:ext cx="274176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pl-PL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12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 type="ftr" idx="8"/>
          </p:nvPr>
        </p:nvSpPr>
        <p:spPr>
          <a:xfrm>
            <a:off x="3908520" y="6400440"/>
            <a:ext cx="621504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 type="sldNum" idx="9"/>
          </p:nvPr>
        </p:nvSpPr>
        <p:spPr>
          <a:xfrm>
            <a:off x="10167840" y="6400440"/>
            <a:ext cx="110664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pl-PL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fld id="{70B17D8B-05F1-48FD-B593-611768DC2AD8}" type="slidenum">
              <a:rPr b="0" lang="pl-PL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rostokąt 7"/>
          <p:cNvSpPr/>
          <p:nvPr/>
        </p:nvSpPr>
        <p:spPr>
          <a:xfrm>
            <a:off x="2082960" y="0"/>
            <a:ext cx="8022960" cy="6858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55294"/>
                </a:srgbClr>
              </a:gs>
            </a:gsLst>
            <a:lin ang="7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400" spc="-1" strike="noStrike">
                <a:solidFill>
                  <a:srgbClr val="374c81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1" marL="73008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2" marL="115740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3" marL="158436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4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5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6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dt" idx="10"/>
          </p:nvPr>
        </p:nvSpPr>
        <p:spPr>
          <a:xfrm>
            <a:off x="1117440" y="6400440"/>
            <a:ext cx="274176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pl-PL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12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 type="ftr" idx="11"/>
          </p:nvPr>
        </p:nvSpPr>
        <p:spPr>
          <a:xfrm>
            <a:off x="3908520" y="6400440"/>
            <a:ext cx="621504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 type="sldNum" idx="12"/>
          </p:nvPr>
        </p:nvSpPr>
        <p:spPr>
          <a:xfrm>
            <a:off x="10167840" y="6400440"/>
            <a:ext cx="110664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pl-PL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fld id="{6B9B4338-F0F5-447F-BD25-CE775B7630A9}" type="slidenum">
              <a:rPr b="0" lang="pl-PL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671720" y="1498320"/>
            <a:ext cx="7008840" cy="22906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pl-PL" sz="5400" spc="-1" strike="noStrike">
                <a:solidFill>
                  <a:srgbClr val="374c81"/>
                </a:solidFill>
                <a:latin typeface="Century Gothic"/>
              </a:rPr>
              <a:t>Fiszki autokorektywne</a:t>
            </a:r>
            <a:endParaRPr b="0" lang="en-US" sz="5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44" name="Prostokąt zaokrąglony 4"/>
          <p:cNvSpPr/>
          <p:nvPr/>
        </p:nvSpPr>
        <p:spPr>
          <a:xfrm>
            <a:off x="4078440" y="4149720"/>
            <a:ext cx="2447640" cy="1511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7e5c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2400" spc="-1" strike="noStrike" u="sng">
                <a:solidFill>
                  <a:srgbClr val="0070c0"/>
                </a:solidFill>
                <a:uFillTx/>
                <a:latin typeface="Century Gothic"/>
                <a:hlinkClick r:id="rId1" action="ppaction://hlinksldjump"/>
              </a:rPr>
              <a:t>Pytania łatwe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45" name="Prostokąt zaokrąglony 5"/>
          <p:cNvSpPr/>
          <p:nvPr/>
        </p:nvSpPr>
        <p:spPr>
          <a:xfrm>
            <a:off x="6670800" y="4149720"/>
            <a:ext cx="2447640" cy="1511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7e5c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2400" spc="-1" strike="noStrike">
                <a:solidFill>
                  <a:srgbClr val="374c81"/>
                </a:solidFill>
                <a:latin typeface="Century Gothic"/>
              </a:rPr>
              <a:t>Pytania średnio trudne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46" name="Prostokąt zaokrąglony 6"/>
          <p:cNvSpPr/>
          <p:nvPr/>
        </p:nvSpPr>
        <p:spPr>
          <a:xfrm>
            <a:off x="9271080" y="4149720"/>
            <a:ext cx="2448000" cy="1511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7e5c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2400" spc="-1" strike="noStrike">
                <a:solidFill>
                  <a:srgbClr val="374c81"/>
                </a:solidFill>
                <a:latin typeface="Century Gothic"/>
              </a:rPr>
              <a:t>Pytania trudne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1117440" y="3284640"/>
            <a:ext cx="10157040" cy="7920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3200" spc="-1" strike="noStrike">
                <a:solidFill>
                  <a:srgbClr val="374c81"/>
                </a:solidFill>
                <a:latin typeface="Century Gothic"/>
              </a:rPr>
              <a:t>Czym się różni rana cięta od rany szarpanej?</a:t>
            </a:r>
            <a:endParaRPr b="0" lang="en-US" sz="32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48" name="Strzałka w prawo 1"/>
          <p:cNvSpPr/>
          <p:nvPr/>
        </p:nvSpPr>
        <p:spPr>
          <a:xfrm>
            <a:off x="9263160" y="5877000"/>
            <a:ext cx="2011320" cy="792000"/>
          </a:xfrm>
          <a:prstGeom prst="rightArrow">
            <a:avLst>
              <a:gd name="adj1" fmla="val 50000"/>
              <a:gd name="adj2" fmla="val 50015"/>
            </a:avLst>
          </a:prstGeom>
          <a:solidFill>
            <a:srgbClr val="ffffff"/>
          </a:solidFill>
          <a:ln w="12600">
            <a:solidFill>
              <a:srgbClr val="7e5c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2000" spc="-1" strike="noStrike" u="sng">
                <a:solidFill>
                  <a:srgbClr val="0070c0"/>
                </a:solidFill>
                <a:uFillTx/>
                <a:latin typeface="Century Gothic"/>
                <a:hlinkClick r:id="rId1" action="ppaction://hlinksldjump"/>
              </a:rPr>
              <a:t>Odpowiedź</a:t>
            </a:r>
            <a:endParaRPr b="0" lang="en-US" sz="20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1990800" y="1412640"/>
            <a:ext cx="9283680" cy="447012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2800" spc="-1" strike="noStrike">
                <a:solidFill>
                  <a:srgbClr val="374c81"/>
                </a:solidFill>
                <a:latin typeface="Century Gothic"/>
              </a:rPr>
              <a:t>Rana cięta ma gładkie brzegi, podczas gdy rana szarpana ma brzegi nieregularne</a:t>
            </a:r>
            <a:endParaRPr b="0" lang="en-US" sz="28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18T14:36:12Z</dcterms:created>
  <dc:creator/>
  <dc:description/>
  <cp:keywords/>
  <dc:language>en-US</dc:language>
  <cp:lastModifiedBy/>
  <dcterms:modified xsi:type="dcterms:W3CDTF">2013-08-18T15:39:27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27879409991</vt:lpwstr>
  </property>
</Properties>
</file>